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066-B1AE-4395-8391-A9192869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5CC-ED64-4C96-8883-F5FEC94E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4270-CA2E-4437-9CD0-7F246574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F325-3E63-4565-9CEC-181701E1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3A91-EF61-430A-B9F2-25EB41D5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EC07-28B4-46D8-9735-95FE620A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92CB-A559-432F-9089-22985ABA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EF84-F251-407C-A827-B5316E14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3801-1943-4C68-BBF7-810C8D82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5BA9-49DC-4B8F-9F1E-A476502C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C8C9-DDEE-488E-8057-8D60E567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AC3B-8372-4483-B820-5808D420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EFAA-7908-45A8-8A37-4ACB7A0D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6D32-B4E8-41B8-AFC1-2D5A98A9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DF4F-2E8A-47F2-9B87-72B25C41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0451-E4B4-444D-9DC9-D651A766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A136-A313-4F5C-B3CE-6C1EF03A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5F03F-01E4-4E0A-A044-B0D1E5AB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CB867-9980-48F8-B4AF-6F86FEB5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5D2E0-4A14-4950-8912-F101D370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921BA-ADC8-436F-BE2B-AEA97B4E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60B72-352D-4AC7-8CA9-06262240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B5E-D02E-4DBE-A011-BC8B8670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84B08-D6AD-4B00-ACAF-8A2EC153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1FF62-357C-4BAD-BF1C-4A89B91A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4848A-F472-46C8-A7FD-256813D9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4E314-83C6-45DC-AF53-79BC848C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4B003-6104-4EC3-A507-29D66021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EAB4A-392E-4DAD-BB0D-971355EE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B1052-5CF4-4913-97E1-4E9A51C4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13E54-8A0C-49E7-8237-FD498BD3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6FB06-0FC2-409B-BB75-8A054F6D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361E9-BA16-4426-9819-67E70E08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BB0F-9D7E-4600-91DC-FC0881D3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EF6AD-24F4-4173-A575-01581647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1482C-DD19-4C46-B7DD-6B7B3F87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3823B-85DE-4D4F-B037-66A17348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6C6D3-DFAC-42B0-B4E3-5866BAD1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E4DDD-5EFF-4E06-943F-075A8C97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588C4-0D8E-479C-AE20-6D1726AB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43C64-D6F7-4057-A638-216527E7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A820C-D2FF-4ED1-A004-6207B9AC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7549A-B9B0-417B-B070-C890BBD8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BB40B-2940-4327-836B-F4CC2A91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72D-8417-447E-8B30-BCEB6030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455A0-1661-42DE-8B63-9152EED0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16B02-ABDD-4FA1-9888-7DBD8152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CA65E-3F31-42A8-A0DB-36DAA29E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CB56C-711D-4936-B0AC-DE11377E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E15E2-CF7F-46A3-86B7-FDC0FC0A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25D78-F3CA-4D69-AB71-DC02A2BC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9ED9E-2D07-4B71-90AA-A478E244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5E892-42B7-464F-94C8-AFC6DE82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AAC42-8F5C-451B-9701-A689DE0C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B0C8E-C253-47E2-A68C-50D9C4E9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6A3-2EBA-4437-A724-1E8689C0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D8051-C00E-4544-83BD-88ABF81D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0F227-02CB-432A-88A0-50E9E591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B0B98-8AEA-482A-ACAA-175EE2F0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9573B-D5A0-43CD-B932-73A6A536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9A602-4754-4C7A-9B93-6C8C621D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CAEAF-6B56-45D9-8C2A-62D7329F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65E8A-E722-4A98-A909-C758B041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4AB8D-6519-46C8-B8A1-7B2D9683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FF1CB-229B-4674-B9EE-0376B522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CCAF3-4F82-4778-B7F5-FC9733CE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C1A-4D38-4C17-A1E1-92B3E7D2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FF410-7F33-4374-8BC4-D5D0C3A3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09B3B-3A4F-4FEC-BD5C-C2AA3267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456FF-7258-4B67-866E-18324F39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BBF3D-4E0C-4C96-9976-26515D64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A13C7-421F-4A5F-BECD-97F41FBF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7B59E-7630-4E3A-9104-49C8E542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B3873-6EB0-4E1C-A1D4-1E5A9042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755AE-9ED7-434B-A8FB-B9C0819D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5883B-228E-4F1F-A4D6-D42EC2A5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1492F-8B45-4A8F-A73C-EF73C081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4F9A-9AD3-49EE-83B8-B175ECB6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3A3C7-0932-44E6-B45B-9C37BDA9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F0544-B897-4605-9E88-7E326279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16FA4-1251-4316-8DAD-EDE1E9DC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1DD8F-228A-4EB3-9DDF-2598B617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FE0E1-B98E-42E9-87EB-A6264F77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15B9B-9E9B-4903-A76C-92C6ECFF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76184-1CDE-4902-A80D-822E7161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9F141-C169-4B09-8A0D-31D7B1B7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69B02-41CB-4765-A069-AB092944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9EA6E-40C7-4EF1-B626-373327DA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CBE-F0E1-46EA-902C-5DC26D5B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A8E1D-BE17-44E6-9401-C3300AFA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23E85-1803-4F6A-A4F2-37360637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F4DB2-95D7-46EF-BDA1-1CA792D4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B4B3A-D55B-4846-B0B2-77EF877A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54073-EB66-4E20-9DFB-A2C52DCB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F7541-F96D-4449-A231-A6BBE9F2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8D2FE-5C10-4913-BF1F-DD987D13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935D-CF1F-481B-9307-C647AFC75B5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Háromszög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5ED3-E0DD-4C85-AAAE-85EA33F56F2B}" type="slidenum">
              <a:rPr b="0" lang="hu-H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75FA-9665-4478-9232-FAB7C3926E6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erékszögű háromszög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Háromszög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Egyenes összekötő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Egyenes összekötő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2BFA-08C8-4AC4-9346-59C2C84A0038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C3F5-47E9-4B01-8DD1-719BC9DCF0E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302A-DA7F-4BE7-A33F-289A09AD46E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B586-E5EA-44A1-B04A-62CD4D91BACF}" type="slidenum"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FF93-892B-40CC-A0AB-D2CD4E75F7C9}" type="slidenum"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Cím 1" descr=""/>
          <p:cNvPicPr/>
          <p:nvPr/>
        </p:nvPicPr>
        <p:blipFill>
          <a:blip r:embed="rId1"/>
          <a:stretch/>
        </p:blipFill>
        <p:spPr>
          <a:xfrm>
            <a:off x="566640" y="1749600"/>
            <a:ext cx="84250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8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9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romlot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javul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ugyan olyanok marad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pic>
        <p:nvPicPr>
          <p:cNvPr id="373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4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76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7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1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2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84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5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álmaimat kívánom megvalósítan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a legjobb képességeimet veszem figyelemb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figyelemmel kísérem a munkaerőpiacot és a szükséges szakemberek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még nem tudom mi lesz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9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0" name="Tartalom helye 10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92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3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Cím 1" descr=""/>
          <p:cNvPicPr/>
          <p:nvPr/>
        </p:nvPicPr>
        <p:blipFill>
          <a:blip r:embed="rId1"/>
          <a:stretch/>
        </p:blipFill>
        <p:spPr>
          <a:xfrm>
            <a:off x="493560" y="-66600"/>
            <a:ext cx="8242560" cy="19256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szülők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egyéni vélemény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tanáraim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ismerősöm, családtagom jár(t) ide, s az ő véleménye alapjá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Cím 4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528040" cy="31831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335736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Cím 6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97" name="Tartalom helye 1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8" name="Tartalom helye 1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Cím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994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235728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csalá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karri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a kettő összhangj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405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6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8" name="Tartalom helye 5" descr=""/>
          <p:cNvPicPr/>
          <p:nvPr/>
        </p:nvPicPr>
        <p:blipFill>
          <a:blip r:embed="rId2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9" name="Tartalom helye 7" descr=""/>
          <p:cNvPicPr/>
          <p:nvPr/>
        </p:nvPicPr>
        <p:blipFill>
          <a:blip r:embed="rId3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Cím 5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5742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614376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20714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álint Zsóf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Fehér Jud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Tátrai Kitt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Vas Ver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12.B osztályos tanuló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2009. November 16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49" name="Tartalom helye 7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0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52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3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431200" cy="15476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körülbelül ugyananny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sokkal tö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kevese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Cím 1" descr=""/>
          <p:cNvPicPr/>
          <p:nvPr/>
        </p:nvPicPr>
        <p:blipFill>
          <a:blip r:embed="rId1"/>
          <a:stretch/>
        </p:blipFill>
        <p:spPr>
          <a:xfrm>
            <a:off x="396720" y="-85680"/>
            <a:ext cx="8485200" cy="1927080"/>
          </a:xfrm>
          <a:prstGeom prst="rect">
            <a:avLst/>
          </a:prstGeom>
          <a:ln w="0">
            <a:noFill/>
          </a:ln>
        </p:spPr>
      </p:pic>
      <p:pic>
        <p:nvPicPr>
          <p:cNvPr id="357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8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hogy jó jegyet kapj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hogy minél műveltebb legy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hogy másoknak megfelelj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hogy folytathassam a tanulást valamilyen felsőoktatási intézményb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ím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65" name="Tartalom helye 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6" name="Tartalom helye 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5:08:36Z</dcterms:created>
  <dc:creator>Agora Kft.</dc:creator>
  <dc:description/>
  <dc:language>en-US</dc:language>
  <cp:lastModifiedBy>Jakab</cp:lastModifiedBy>
  <dcterms:modified xsi:type="dcterms:W3CDTF">2010-07-05T21:42:34Z</dcterms:modified>
  <cp:revision>64</cp:revision>
  <dc:subject/>
  <dc:title>Jövőkép és önismeret a 15-16 éves Apáczais diákoknál</dc:title>
</cp:coreProperties>
</file>